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05B-0728-49CF-BF64-1A64F6F927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A95-C74A-4E4F-B0E7-F22BED33AF4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183-53C8-4D08-BF4C-D46BEB0E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Z:\打带技巧改善\IMG_0813.JPG"/>
          <p:cNvPicPr/>
          <p:nvPr/>
        </p:nvPicPr>
        <p:blipFill>
          <a:blip r:embed="rId1"/>
          <a:stretch/>
        </p:blipFill>
        <p:spPr>
          <a:xfrm>
            <a:off x="4714920" y="1500120"/>
            <a:ext cx="3031920" cy="37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Z:\打带技巧改善\IMG_0811.JPG"/>
          <p:cNvPicPr/>
          <p:nvPr/>
        </p:nvPicPr>
        <p:blipFill>
          <a:blip r:embed="rId2"/>
          <a:stretch/>
        </p:blipFill>
        <p:spPr>
          <a:xfrm>
            <a:off x="1357200" y="1500120"/>
            <a:ext cx="3000600" cy="3828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14240" y="5361120"/>
            <a:ext cx="771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用一次性水杯在杯底烫一个小孔，注意孔的边沿不要有毛刺及不顺滑现象。然后将金银线穿过小孔，将杯子倒扣在线上。注意线如果太满，就需要选择稍大的水杯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Burn a small hole on the ground of  one-off plastic cups, the edge of the cup must be even. Then put the gold-silver thread through the hole, choose a bigger cup than the bobb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Z:\打带技巧改善\IMG_0815.JPG"/>
          <p:cNvPicPr/>
          <p:nvPr/>
        </p:nvPicPr>
        <p:blipFill>
          <a:blip r:embed="rId1"/>
          <a:stretch/>
        </p:blipFill>
        <p:spPr>
          <a:xfrm>
            <a:off x="500040" y="1785960"/>
            <a:ext cx="2303640" cy="3071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3143160" y="1785960"/>
            <a:ext cx="3247920" cy="3092400"/>
            <a:chOff x="3143160" y="1785960"/>
            <a:chExt cx="3247920" cy="3092400"/>
          </a:xfrm>
        </p:grpSpPr>
        <p:pic>
          <p:nvPicPr>
            <p:cNvPr id="142" name="Picture 4" descr=""/>
            <p:cNvPicPr/>
            <p:nvPr/>
          </p:nvPicPr>
          <p:blipFill>
            <a:blip r:embed="rId2"/>
            <a:stretch/>
          </p:blipFill>
          <p:spPr>
            <a:xfrm>
              <a:off x="3143160" y="1785960"/>
              <a:ext cx="324792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"/>
            <p:cNvPicPr/>
            <p:nvPr/>
          </p:nvPicPr>
          <p:blipFill>
            <a:blip r:embed="rId3"/>
            <a:stretch/>
          </p:blipFill>
          <p:spPr>
            <a:xfrm>
              <a:off x="3143160" y="2395440"/>
              <a:ext cx="324792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7"/>
          <p:cNvSpPr/>
          <p:nvPr/>
        </p:nvSpPr>
        <p:spPr>
          <a:xfrm>
            <a:off x="6877080" y="1773360"/>
            <a:ext cx="1765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一个小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4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first knob set at 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981840" y="3924360"/>
            <a:ext cx="1695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大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4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big knob set 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981840" y="2639880"/>
            <a:ext cx="176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二个小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2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second knob set at 20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直接箭头连接符 14"/>
          <p:cNvCxnSpPr>
            <a:stCxn id="144" idx="1"/>
          </p:cNvCxnSpPr>
          <p:nvPr/>
        </p:nvCxnSpPr>
        <p:spPr>
          <a:xfrm flipH="1" flipV="1">
            <a:off x="6141600" y="2002680"/>
            <a:ext cx="735840" cy="135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直接箭头连接符 15"/>
          <p:cNvCxnSpPr/>
          <p:nvPr/>
        </p:nvCxnSpPr>
        <p:spPr>
          <a:xfrm flipH="1" flipV="1">
            <a:off x="6176520" y="2649240"/>
            <a:ext cx="929520" cy="157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直接箭头连接符 16"/>
          <p:cNvCxnSpPr/>
          <p:nvPr/>
        </p:nvCxnSpPr>
        <p:spPr>
          <a:xfrm flipH="1">
            <a:off x="6176520" y="4163040"/>
            <a:ext cx="929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直接箭头连接符 17"/>
          <p:cNvCxnSpPr/>
          <p:nvPr/>
        </p:nvCxnSpPr>
        <p:spPr>
          <a:xfrm flipH="1">
            <a:off x="2285280" y="2713680"/>
            <a:ext cx="3786840" cy="286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椭圆 18"/>
          <p:cNvSpPr/>
          <p:nvPr/>
        </p:nvSpPr>
        <p:spPr>
          <a:xfrm>
            <a:off x="1143000" y="2286000"/>
            <a:ext cx="1500120" cy="1785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8"/>
          <p:cNvSpPr/>
          <p:nvPr/>
        </p:nvSpPr>
        <p:spPr>
          <a:xfrm flipH="1" rot="6154200">
            <a:off x="1837440" y="2755800"/>
            <a:ext cx="482400" cy="495360"/>
          </a:xfrm>
          <a:custGeom>
            <a:avLst/>
            <a:gdLst>
              <a:gd name="textAreaLeft" fmla="*/ 70560 w 482400"/>
              <a:gd name="textAreaRight" fmla="*/ 411840 w 48240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357120" y="5000760"/>
            <a:ext cx="257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一和第二旋钮尽量放松（逆时针旋），保持基本与螺丝持平的状态，如图所示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Set the first and the second knobs  loose (counter-clockwise direction )as much as  possible and keep the knobs to be horizontal as the screw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see the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椭圆 21"/>
          <p:cNvSpPr/>
          <p:nvPr/>
        </p:nvSpPr>
        <p:spPr>
          <a:xfrm>
            <a:off x="5786280" y="3914640"/>
            <a:ext cx="5716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直接箭头连接符 22"/>
          <p:cNvCxnSpPr/>
          <p:nvPr/>
        </p:nvCxnSpPr>
        <p:spPr>
          <a:xfrm flipV="1">
            <a:off x="5715000" y="4343040"/>
            <a:ext cx="2865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Rectangle 14"/>
          <p:cNvSpPr/>
          <p:nvPr/>
        </p:nvSpPr>
        <p:spPr>
          <a:xfrm>
            <a:off x="3143160" y="520056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如果有白色底线被拉出布面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则调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逆时针旋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面线张力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If the white bobbin thread was pulled out to the face of the fabric, then adjust the tension of the face thread in a counter-clockwise direction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3143160" y="5986440"/>
            <a:ext cx="507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如果有面线松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则调大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顺时针旋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面线张力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Adjust the tension of the face thread in a clockwise direction if the face thread becomes lo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直接箭头连接符 24"/>
          <p:cNvCxnSpPr/>
          <p:nvPr/>
        </p:nvCxnSpPr>
        <p:spPr>
          <a:xfrm flipH="1">
            <a:off x="2285280" y="2070720"/>
            <a:ext cx="378684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Z:\打带技巧改善\IMG_0820.JPG"/>
          <p:cNvPicPr/>
          <p:nvPr/>
        </p:nvPicPr>
        <p:blipFill>
          <a:blip r:embed="rId1"/>
          <a:stretch/>
        </p:blipFill>
        <p:spPr>
          <a:xfrm>
            <a:off x="4572000" y="4149720"/>
            <a:ext cx="3282840" cy="2462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Z:\打带技巧改善\IMG_0817.JPG"/>
          <p:cNvPicPr/>
          <p:nvPr/>
        </p:nvPicPr>
        <p:blipFill>
          <a:blip r:embed="rId2"/>
          <a:stretch/>
        </p:blipFill>
        <p:spPr>
          <a:xfrm>
            <a:off x="1227240" y="1697040"/>
            <a:ext cx="3262320" cy="2446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Z:\打带技巧改善\IMG_0818.JPG"/>
          <p:cNvPicPr/>
          <p:nvPr/>
        </p:nvPicPr>
        <p:blipFill>
          <a:blip r:embed="rId3"/>
          <a:stretch/>
        </p:blipFill>
        <p:spPr>
          <a:xfrm>
            <a:off x="4584600" y="164304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Z:\打带技巧改善\IMG_0819.JPG"/>
          <p:cNvPicPr/>
          <p:nvPr/>
        </p:nvPicPr>
        <p:blipFill>
          <a:blip r:embed="rId4"/>
          <a:stretch/>
        </p:blipFill>
        <p:spPr>
          <a:xfrm>
            <a:off x="1214280" y="4170240"/>
            <a:ext cx="3299040" cy="2473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 flipH="1" rot="16988400">
            <a:off x="2409840" y="2247120"/>
            <a:ext cx="454320" cy="519120"/>
          </a:xfrm>
          <a:custGeom>
            <a:avLst/>
            <a:gdLst>
              <a:gd name="textAreaLeft" fmla="*/ 66240 w 454320"/>
              <a:gd name="textAreaRight" fmla="*/ 388080 w 454320"/>
              <a:gd name="textAreaTop" fmla="*/ 75960 h 519120"/>
              <a:gd name="textAreaBottom" fmla="*/ 44316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左弧形箭头 14"/>
          <p:cNvSpPr/>
          <p:nvPr/>
        </p:nvSpPr>
        <p:spPr>
          <a:xfrm>
            <a:off x="2463840" y="4714920"/>
            <a:ext cx="549360" cy="857160"/>
          </a:xfrm>
          <a:custGeom>
            <a:avLst/>
            <a:gdLst>
              <a:gd name="textAreaLeft" fmla="*/ 73440 w 549360"/>
              <a:gd name="textAreaRight" fmla="*/ 475920 w 549360"/>
              <a:gd name="textAreaTop" fmla="*/ 162720 h 857160"/>
              <a:gd name="textAreaBottom" fmla="*/ 6256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05" stAng="-5400000" swAng="-5400000"/>
                <a:lnTo>
                  <a:pt x="0" y="11665"/>
                </a:lnTo>
                <a:arcTo wR="21600" hR="8205" stAng="10800000" swAng="-3347718"/>
                <a:lnTo>
                  <a:pt x="16200" y="21339"/>
                </a:lnTo>
                <a:lnTo>
                  <a:pt x="21600" y="18140"/>
                </a:lnTo>
                <a:lnTo>
                  <a:pt x="16200" y="14419"/>
                </a:lnTo>
                <a:lnTo>
                  <a:pt x="16200" y="16149"/>
                </a:lnTo>
                <a:arcTo wR="21600" hR="8205" stAng="7452282" swAng="3066676"/>
                <a:lnTo>
                  <a:pt x="486" y="9935"/>
                </a:lnTo>
                <a:arcTo wR="21600" hR="8205" stAng="-10518958" swAng="5118958"/>
                <a:close/>
              </a:path>
              <a:path fill="darkenLess" w="21600" h="21600">
                <a:moveTo>
                  <a:pt x="21600" y="0"/>
                </a:moveTo>
                <a:arcTo wR="21600" hR="8205" stAng="-5400000" swAng="-5400000"/>
                <a:lnTo>
                  <a:pt x="0" y="8205"/>
                </a:lnTo>
                <a:arcTo wR="21600" hR="8205" stAng="10800000" swAng="-281042"/>
                <a:lnTo>
                  <a:pt x="486" y="9935"/>
                </a:lnTo>
                <a:arcTo wR="21600" hR="8205" stAng="-10518958" swAng="51189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直接箭头连接符 15"/>
          <p:cNvCxnSpPr/>
          <p:nvPr/>
        </p:nvCxnSpPr>
        <p:spPr>
          <a:xfrm>
            <a:off x="2869920" y="2785680"/>
            <a:ext cx="5007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16"/>
          <p:cNvCxnSpPr/>
          <p:nvPr/>
        </p:nvCxnSpPr>
        <p:spPr>
          <a:xfrm>
            <a:off x="6013080" y="2286000"/>
            <a:ext cx="50076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17"/>
          <p:cNvCxnSpPr/>
          <p:nvPr/>
        </p:nvCxnSpPr>
        <p:spPr>
          <a:xfrm>
            <a:off x="6585120" y="2571840"/>
            <a:ext cx="429120" cy="7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1" name="AutoShape 18"/>
          <p:cNvSpPr/>
          <p:nvPr/>
        </p:nvSpPr>
        <p:spPr>
          <a:xfrm flipH="1" rot="829200">
            <a:off x="6435720" y="4863600"/>
            <a:ext cx="450720" cy="519120"/>
          </a:xfrm>
          <a:custGeom>
            <a:avLst/>
            <a:gdLst>
              <a:gd name="textAreaLeft" fmla="*/ 65880 w 450720"/>
              <a:gd name="textAreaRight" fmla="*/ 384840 w 450720"/>
              <a:gd name="textAreaTop" fmla="*/ 75960 h 519120"/>
              <a:gd name="textAreaBottom" fmla="*/ 44316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441440" y="5786280"/>
            <a:ext cx="292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底线要非常顺畅的能拉出来，拉出底线时，线芯要如图所示方向转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pull out the underlay smoothly and the core of shuttle must tur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宋体"/>
              </a:rPr>
              <a:t>n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 around as the pictu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0160" y="327348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底线按如图所示方向装入梭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Put the underlay into the shuttle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宋体"/>
              </a:rPr>
              <a:t>as 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the pi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4656240" y="326700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然后通过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弹簧片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再绕过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扣线弹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宋体"/>
              </a:rPr>
              <a:t>go through the spring piece and  then go through the h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直接箭头连接符 22"/>
          <p:cNvCxnSpPr/>
          <p:nvPr/>
        </p:nvCxnSpPr>
        <p:spPr>
          <a:xfrm flipV="1">
            <a:off x="6013440" y="2571480"/>
            <a:ext cx="57240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6" name="直接箭头连接符 23"/>
          <p:cNvCxnSpPr/>
          <p:nvPr/>
        </p:nvCxnSpPr>
        <p:spPr>
          <a:xfrm flipH="1" flipV="1">
            <a:off x="6941880" y="2714760"/>
            <a:ext cx="429120" cy="64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TextBox 25"/>
          <p:cNvSpPr/>
          <p:nvPr/>
        </p:nvSpPr>
        <p:spPr>
          <a:xfrm>
            <a:off x="4584600" y="58579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Calibri"/>
                <a:ea typeface="宋体"/>
              </a:rPr>
              <a:t>底线如果太紧，则按图所示方向调节螺丝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Calibri"/>
                <a:ea typeface="宋体"/>
              </a:rPr>
              <a:t>adjust the screw as the pictue if the the underlay is too tigh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IMG_0024"/>
          <p:cNvPicPr/>
          <p:nvPr/>
        </p:nvPicPr>
        <p:blipFill>
          <a:blip r:embed="rId1"/>
          <a:stretch/>
        </p:blipFill>
        <p:spPr>
          <a:xfrm>
            <a:off x="428760" y="2198520"/>
            <a:ext cx="2911320" cy="235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5840" y="4627440"/>
            <a:ext cx="3214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拿着线端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轻轻把梭芯壳上下摇动时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线由于梭芯的自重能自然拉出来的状态为适当的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t is proper thread tension : to hand-lift the core of the shuttle and shake it from top and bottom, and  the bobbin thread can be pull out smooth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2" descr="IMG_0021"/>
          <p:cNvPicPr/>
          <p:nvPr/>
        </p:nvPicPr>
        <p:blipFill>
          <a:blip r:embed="rId2"/>
          <a:stretch/>
        </p:blipFill>
        <p:spPr>
          <a:xfrm>
            <a:off x="3786120" y="2198520"/>
            <a:ext cx="29084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IMG_0022"/>
          <p:cNvPicPr/>
          <p:nvPr/>
        </p:nvPicPr>
        <p:blipFill>
          <a:blip r:embed="rId3"/>
          <a:stretch/>
        </p:blipFill>
        <p:spPr>
          <a:xfrm>
            <a:off x="6715080" y="2413080"/>
            <a:ext cx="213696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Oval 17"/>
          <p:cNvSpPr/>
          <p:nvPr/>
        </p:nvSpPr>
        <p:spPr>
          <a:xfrm>
            <a:off x="7829640" y="324648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4000680" y="4797360"/>
            <a:ext cx="47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将线芯装入底梭并放入底线张力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用螺刀调节弹簧片松紧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红色针落在红色范围内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20gf—30gf), place the core to the shuttle together with the gauge of the thread tension, adjusting the elasticity of the spring with screwdriver, setting the red pointer at 20gf – 30g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4:34Z</dcterms:created>
  <dc:creator>微软用户</dc:creator>
  <dc:description/>
  <dc:language>en-US</dc:language>
  <cp:lastModifiedBy>lenovo</cp:lastModifiedBy>
  <dcterms:modified xsi:type="dcterms:W3CDTF">2013-05-23T03:20:38Z</dcterms:modified>
  <cp:revision>3</cp:revision>
  <dc:subject/>
  <dc:title>幻灯片 1</dc:title>
</cp:coreProperties>
</file>